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B11-E503-4290-999C-0AD92C0C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999D-A809-4635-9A3B-B196DCC0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A33-0B61-453B-83C5-040E9EDC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7757-2304-4622-A4C3-A752E849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D5E5-09BE-497E-A74E-CD9079C0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1C42-4708-44B1-B919-9C50B55F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F1D-DC77-4B27-851B-D7E0227F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610-28E3-40B7-ACAF-39E58887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DFC8-47B1-47EB-8206-CEBD23CD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3375-29B3-442F-A0F8-05AC6E8E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19D5-2DDA-497A-BAD6-B7F142DE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3248-1CD7-4206-9DCB-BA140A32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8554-C720-49CA-84C0-42D26869A7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09:45:29Z</dcterms:created>
  <dc:creator>dlj</dc:creator>
  <dc:description/>
  <dc:language>en-US</dc:language>
  <cp:lastModifiedBy>dlj</cp:lastModifiedBy>
  <dcterms:modified xsi:type="dcterms:W3CDTF">2007-04-24T09:45:41Z</dcterms:modified>
  <cp:revision>1</cp:revision>
  <dc:subject/>
  <dc:title>幻灯片 1</dc:title>
</cp:coreProperties>
</file>