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5191-4BEB-4138-BC7F-D838EBF1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C371-BD2B-4707-8EB3-4A7C28DB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50EB-568C-40E9-A511-516D663F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10F-E400-446C-AC6C-69C6C77F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67D8-91FC-43A3-84C6-0D9FE9CA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45B3-2A91-4B4A-9274-DDA149F9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F850-36EE-45DD-8373-2B743ADE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2D6A-72FE-4319-8636-98C574E8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F97F-360B-4DF8-A878-5CA5571E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430B-EA07-41A8-A286-6B73266E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D65F-A221-4F7E-B1D2-AAC9F1D2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EC2D-F390-407F-A703-AE228046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D230-28DE-456D-A16D-DF2B2A55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5520-1F44-4ACB-BFE6-162ABC35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9A41-8FFE-45A3-91A2-44F014AC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C849-4AF9-4B10-9FEE-FFA46648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30E6-ADA8-42C9-970B-8DDCAA5A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0CB4-3F25-4AD9-B477-9C77E6CD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CEF4-D6C2-4486-96FC-BC49554A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1B5F-B2DA-4EAF-A644-723D04DF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9A22-D04B-4A18-9551-9E491567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67C2-A285-45AC-BA36-DEB7BC70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CBD2-B97B-4B6E-94BD-790232E4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C767-6437-42FF-A3BB-5B6C29A2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37F3-8C1C-45F0-8968-BD8DD6A433C6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C27D-1DB2-4BF1-9D33-B8595CB74769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动画设计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01:36:16Z</dcterms:created>
  <dc:creator>lj</dc:creator>
  <dc:description/>
  <dc:language>en-US</dc:language>
  <cp:lastModifiedBy>lj</cp:lastModifiedBy>
  <dcterms:modified xsi:type="dcterms:W3CDTF">2007-02-21T02:03:39Z</dcterms:modified>
  <cp:revision>10</cp:revision>
  <dc:subject/>
  <dc:title>演示文稿</dc:title>
</cp:coreProperties>
</file>