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549-6063-4F92-B4A2-9CAA0421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A52-3896-4DD8-A2F6-13D05267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D7D-B446-4B1F-81EA-8D1A9229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B180-0DEB-4E38-BA89-E214C665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B87-B4F3-46F6-A62C-F1D49A07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ECC-75CE-43B5-B90E-1643DE22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775B-6EAB-4C0A-B031-4B55CC90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BE4-14B2-4D3E-8277-327B40A3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76A-8F52-4121-AC02-753246E9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DA5-C4EC-4F81-B621-DBDE4F7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7EF-43C9-4BDE-9FC6-5E057DCB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1CC-2B92-488D-81A5-DA630EB4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D97D-41A4-4976-B48C-5ED8CF191B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36:16Z</dcterms:created>
  <dc:creator>lj</dc:creator>
  <dc:description/>
  <dc:language>en-US</dc:language>
  <cp:lastModifiedBy>lj</cp:lastModifiedBy>
  <dcterms:modified xsi:type="dcterms:W3CDTF">2007-02-21T02:04:41Z</dcterms:modified>
  <cp:revision>11</cp:revision>
  <dc:subject/>
  <dc:title>演示文稿</dc:title>
</cp:coreProperties>
</file>