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EB8-95FA-44B1-ADAC-F60FD336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176-C9B3-4485-BAE6-59FD6502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2DD-B34F-4264-8C44-A36E6F13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72A-F31F-478C-BBB6-C57149F6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84B-DD10-4E17-A66B-C4C0C97F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15F-3670-4354-94CE-6213BBDF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C3E-DF84-4A95-B32C-5F31B10C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2DA-9E42-4A22-AEDD-C2E95876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3BD-19F8-4E72-B3A5-5514D27C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2C1-80BD-4360-B803-F3499AC4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AAF-53EF-41DC-9F35-945FA47A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080-018B-4183-91FE-FA340FF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E470-A5B2-49D7-A9B8-AD43F0C128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36:16Z</dcterms:created>
  <dc:creator>lj</dc:creator>
  <dc:description/>
  <dc:language>en-US</dc:language>
  <cp:lastModifiedBy>lj</cp:lastModifiedBy>
  <dcterms:modified xsi:type="dcterms:W3CDTF">2007-02-21T01:57:57Z</dcterms:modified>
  <cp:revision>11</cp:revision>
  <dc:subject/>
  <dc:title>演示文稿</dc:title>
</cp:coreProperties>
</file>