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EC9-70E7-4EDD-827D-1109EE32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E9D-4FA9-4184-90C8-F697919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C3C-43EE-4E95-80EE-288CCBB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EC2-556A-4892-BB49-798B3A4E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0B3B7-15ED-46E3-BADC-6F554023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69694-33CA-4F5E-9EF7-0FE2F2BA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AE690-85F0-425E-945C-9A2364CA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F8D0E-C016-45A9-B6AD-46C42FC8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783B-C989-4ECD-A8D5-396E0F98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E0624-0F1B-4405-8B96-B5FEC77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CAA5D-493C-40CB-8AF4-8577AF9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8CE-35BC-479D-994C-4A554E3E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57682-54D3-4ADD-96AD-EFF46FB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11E73-3D49-4B5F-964A-9C06B4E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6062D-A145-43F5-B89C-EDAD1FA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0CD87-3B99-41F1-95D6-FAF0487F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C2E66-B237-4B03-8774-2154B0B3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6506-880A-4BD8-8D2B-47F1713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46E-7ECD-4B40-98DF-4F233CC6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210-592C-4669-82F7-58C6536E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2CC-6553-488A-B53D-9BD0EBAF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64C-7C95-40A8-9B4E-26AD0430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7FD-04A9-4AC3-B53C-3B7E1139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097-FA25-498B-B740-435DD100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665D-1AF7-4839-82E9-11CEA5BE0B4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90F-E22C-40A0-ADDC-98BB9A7152D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幻灯片切换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advTm="3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828880" cy="27352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781360"/>
            <a:ext cx="61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owerpoint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976480" cy="273204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微软用户</cp:lastModifiedBy>
  <dcterms:modified xsi:type="dcterms:W3CDTF">2008-05-22T07:17:38Z</dcterms:modified>
  <cp:revision>10</cp:revision>
  <dc:subject/>
  <dc:title>演示文稿</dc:title>
</cp:coreProperties>
</file>