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1CE-DC47-4962-A423-20CE9152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126-1968-44D2-B9C4-BA08F570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054-8D93-4E87-9997-ADCBAD84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6A6-1311-4EAB-95E6-1AD3C215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C288-7021-40B4-BAC7-0EFAD9C6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D19D-79A6-40BE-A457-5A254DB8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5C29-268A-4AEA-88B1-CA461587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528-3035-4735-9263-F99C1E9A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7EAC-F2AA-490A-B386-338A1CC5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8B20-0D37-47B8-89B4-B174421F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B72B-D045-43FC-9A61-725D1E38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099-74C9-4DF3-83D5-0F451D98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E602-2E3D-43C3-8E69-FDD23F9D3B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09:45:29Z</dcterms:created>
  <dc:creator>dlj</dc:creator>
  <dc:description/>
  <dc:language>en-US</dc:language>
  <cp:lastModifiedBy>dlj</cp:lastModifiedBy>
  <dcterms:modified xsi:type="dcterms:W3CDTF">2007-04-24T09:45:41Z</dcterms:modified>
  <cp:revision>1</cp:revision>
  <dc:subject/>
  <dc:title>幻灯片 1</dc:title>
</cp:coreProperties>
</file>