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648-C3F3-46A0-9591-7EB9F66C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345-CDC9-4437-A94A-72D16930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71C-97E0-4672-9538-33BB926A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726-CC30-4B50-BF34-89928CEC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270E-2BC1-4A1A-8C4B-F33536B5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4B07-02A2-4BD7-9FFC-0DC62BC8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AD7D-D440-427D-BB24-3B2EE08D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B07B-7736-4402-95E9-CC1EB4EE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E20A-2B8D-4189-B5D2-B7259BE3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8261-8374-40E9-86B5-102D43AF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175A-FD79-495E-9E7E-929C5274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933-58CF-4F04-8681-38760450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A614-EA5B-406E-B796-5E52933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138B-BC57-4707-A046-CC3D9D6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025E-2C88-4895-9E15-D43128FB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8801-4AB0-408F-89BB-F6E58FF2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C14D-E4B1-4207-8387-25B59CDD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693-94A7-4D84-B421-E13D4F50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3E9-995A-4D91-B3C4-8D2CB23C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049-A20A-4ECC-A7F7-FCAC795B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8B0-EA9F-44CD-AE82-65F43323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9AB-DDF9-45D0-9B6B-57040C6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786-B45C-403D-A4F9-42D462ED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867-4CC5-49ED-B7FA-0F74A108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7C34-8D9C-4CB9-94F9-BA539202A61F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37A6-AC83-4BFD-82A0-43EB5C43D421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动画设计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36:16Z</dcterms:created>
  <dc:creator>lj</dc:creator>
  <dc:description/>
  <dc:language>en-US</dc:language>
  <cp:lastModifiedBy>lj</cp:lastModifiedBy>
  <dcterms:modified xsi:type="dcterms:W3CDTF">2007-02-21T02:03:39Z</dcterms:modified>
  <cp:revision>10</cp:revision>
  <dc:subject/>
  <dc:title>演示文稿</dc:title>
</cp:coreProperties>
</file>