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4D78-523A-4735-AFF2-E755731D0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16D6-CBD1-4BF0-B6C1-21E5D6233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127F-EE5A-4FE2-9B58-985B75AD3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FF8A-0C80-4339-95D4-038FBFA0C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DF1A-0CEE-4C28-93D8-67D5C5CD0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4AFA-677D-4780-8D51-1A3CCA6BB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51DE-C590-4A92-970C-D47E16C84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CC0D-CAD4-48A1-83EE-DE5D9F4DE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3B0B-D787-47D0-B53C-0AE7B13CC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540E-CCE4-42FA-AC0E-66E6171E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A36B-1234-4438-A4B9-648E96FA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5B5C-2A93-421C-8C24-3B93569C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9FA77-E356-4E54-9BDA-9F5494EFA9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幻灯片设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1T01:36:16Z</dcterms:created>
  <dc:creator>lj</dc:creator>
  <dc:description/>
  <dc:language>en-US</dc:language>
  <cp:lastModifiedBy>lj</cp:lastModifiedBy>
  <dcterms:modified xsi:type="dcterms:W3CDTF">2007-02-21T02:04:41Z</dcterms:modified>
  <cp:revision>11</cp:revision>
  <dc:subject/>
  <dc:title>演示文稿</dc:title>
</cp:coreProperties>
</file>