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032-6828-46A7-8840-B552F859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83E-4AEE-4BBB-AB3E-48C5A1E7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2EB-6901-49A4-AA18-1C3EF830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0B67-6ABE-482C-B68F-04C7280E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BE5-42BF-4D33-9F89-8B77F231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BD4-9C49-4E62-B1D6-25443C9B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A06-9CCD-4569-82E0-0FCC9F9F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9DF-E9C7-4491-900C-0DA9F85A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96A-3224-4D42-BBDE-968AB3D7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D0E-735B-4487-82D6-686683A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1E9-BFA4-428B-BDA8-DC100C6A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C40D-8837-4731-A26D-9479206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23C4-18BF-46F3-AF2A-2CE058B94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lj</cp:lastModifiedBy>
  <dcterms:modified xsi:type="dcterms:W3CDTF">2007-02-21T01:57:57Z</dcterms:modified>
  <cp:revision>11</cp:revision>
  <dc:subject/>
  <dc:title>演示文稿</dc:title>
</cp:coreProperties>
</file>