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FFA-1E4D-45A7-B0CB-249CA7EC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B8C-6281-40C8-8AD6-778B6002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CBD-514A-4A40-A3EF-E3BF09D6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17C9-103F-4C9C-9942-4BD05B2E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92424-EA5F-469C-B30D-FB3DC25B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F6E78-1535-419E-BCF5-0E851AA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738B9-A171-4DDA-90E2-376BE911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27DF2-6911-414E-BA15-DE933B91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0547F-A3E1-4CE2-9557-76A2FAB3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BF3F3-CD8E-4713-BDD2-4F359302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57D29-202D-4B93-ABA2-462A7EE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986C-A1EE-4E42-8B39-BC546EFD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31C11-3FC6-420A-AACB-26FC55BE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76B28-B07B-4F62-83A1-46DDCD0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E6F81-C4E6-43BA-AD5C-A181515E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43246-287D-47A1-B526-6682C8A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D58F7-AFE3-4994-91B3-4691629A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8EF-EE9C-410F-9C7E-68BCA144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A4E-FD59-4244-9ED4-C07889F3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E56-F74C-4E40-9EFB-41D9BA5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BD4-9BCE-44D7-8BC8-CA076268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FCC-3CFC-40A3-911A-136F9DB4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23C-9B2D-4818-99C9-76EAAE9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1D3A-B044-4CB1-AE71-BE871470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6D0-2530-4095-A882-DFFA7C36834A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33B2-E2A8-478F-A226-BDE07294BC0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幻灯片切换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 advTm="3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2828880" cy="273528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781360"/>
            <a:ext cx="619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owerpoint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advTm="3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2976480" cy="273204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微软用户</cp:lastModifiedBy>
  <dcterms:modified xsi:type="dcterms:W3CDTF">2008-05-22T07:17:38Z</dcterms:modified>
  <cp:revision>10</cp:revision>
  <dc:subject/>
  <dc:title>演示文稿</dc:title>
</cp:coreProperties>
</file>